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16200000">
            <a:off x="-1020600" y="6629040"/>
            <a:ext cx="4572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"/>
              </a:rPr>
              <a:t>NOTES</a:t>
            </a:r>
            <a:endParaRPr b="1" lang="en-US" sz="2400" spc="1" strike="noStrike">
              <a:ln w="0">
                <a:noFill/>
              </a:ln>
              <a:solidFill>
                <a:srgbClr val="eaeaea"/>
              </a:solidFill>
              <a:latin typeface="Arial"/>
              <a:ea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Crane Training 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LGIC GDK16 Engineering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891720" y="743040"/>
            <a:ext cx="5062680" cy="379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1"/>
          </p:nvPr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</a:rPr>
              <a:t>Issue 1 , 14/9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2"/>
          </p:nvPr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FC75F3B-C258-424D-98A0-0444CC6D98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dt" idx="3"/>
          </p:nvPr>
        </p:nvSpPr>
        <p:spPr>
          <a:xfrm>
            <a:off x="383508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</a:rPr>
              <a:t>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can manage all LDK system serie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can manage all LDK system serie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following PC Spec. is required to install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lease just refer to the requirement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4680" y="6529320"/>
            <a:ext cx="11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D47-4736-4B31-B253-AD59E3A5697B}" type="slidenum">
              <a:rPr b="1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8680" y="1571760"/>
            <a:ext cx="796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SLOT CONFIGU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480" y="115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Slot Numb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그림3" descr=""/>
          <p:cNvPicPr/>
          <p:nvPr/>
        </p:nvPicPr>
        <p:blipFill>
          <a:blip r:embed="rId1"/>
          <a:stretch/>
        </p:blipFill>
        <p:spPr>
          <a:xfrm>
            <a:off x="1644480" y="4262400"/>
            <a:ext cx="388944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그림10" descr=""/>
          <p:cNvPicPr/>
          <p:nvPr/>
        </p:nvPicPr>
        <p:blipFill>
          <a:blip r:embed="rId2"/>
          <a:stretch/>
        </p:blipFill>
        <p:spPr>
          <a:xfrm>
            <a:off x="1652760" y="2548080"/>
            <a:ext cx="3890880" cy="1120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0600" y="46195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BK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00" y="28926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EK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32280" y="4876920"/>
            <a:ext cx="1247760" cy="32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32280" y="4505400"/>
            <a:ext cx="1247760" cy="32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0720" y="3105000"/>
            <a:ext cx="1247760" cy="32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0720" y="2733840"/>
            <a:ext cx="1247760" cy="32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60600" y="4886280"/>
            <a:ext cx="524160" cy="32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600" y="4495680"/>
            <a:ext cx="524160" cy="32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98760" y="3124080"/>
            <a:ext cx="523800" cy="32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98760" y="2733840"/>
            <a:ext cx="523800" cy="32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10200" y="2413080"/>
            <a:ext cx="1511280" cy="1305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6188040" y="4232160"/>
            <a:ext cx="1215720" cy="1012680"/>
            <a:chOff x="6188040" y="4232160"/>
            <a:chExt cx="1215720" cy="1012680"/>
          </a:xfrm>
        </p:grpSpPr>
        <p:grpSp>
          <p:nvGrpSpPr>
            <p:cNvPr id="69" name=""/>
            <p:cNvGrpSpPr/>
            <p:nvPr/>
          </p:nvGrpSpPr>
          <p:grpSpPr>
            <a:xfrm>
              <a:off x="6188040" y="4232160"/>
              <a:ext cx="1212120" cy="1012680"/>
              <a:chOff x="6188040" y="4232160"/>
              <a:chExt cx="1212120" cy="1012680"/>
            </a:xfrm>
          </p:grpSpPr>
          <p:pic>
            <p:nvPicPr>
              <p:cNvPr id="70" name="" descr=""/>
              <p:cNvPicPr/>
              <p:nvPr/>
            </p:nvPicPr>
            <p:blipFill>
              <a:blip r:embed="rId4"/>
              <a:srcRect l="0" t="0" r="0" b="9756"/>
              <a:stretch/>
            </p:blipFill>
            <p:spPr>
              <a:xfrm>
                <a:off x="6188040" y="4232160"/>
                <a:ext cx="1212120" cy="91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6248520" y="5046480"/>
                <a:ext cx="427680" cy="19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7251120" y="4398840"/>
              <a:ext cx="152640" cy="19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572520" y="514980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MIU, AAF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99320" y="3549600"/>
            <a:ext cx="489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18640" y="2554200"/>
            <a:ext cx="489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86240" y="4883040"/>
            <a:ext cx="30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6240" y="4492800"/>
            <a:ext cx="30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71840" y="4892760"/>
            <a:ext cx="30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71840" y="4502160"/>
            <a:ext cx="30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33760" y="3121200"/>
            <a:ext cx="30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33760" y="2730600"/>
            <a:ext cx="30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19360" y="3130560"/>
            <a:ext cx="30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19360" y="2739960"/>
            <a:ext cx="30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8720" y="5121360"/>
            <a:ext cx="306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94480" y="3511440"/>
            <a:ext cx="478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5560" y="5105520"/>
            <a:ext cx="1028880" cy="32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34160" y="3505320"/>
            <a:ext cx="590400" cy="326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989240" y="1889280"/>
            <a:ext cx="4680" cy="42796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28480" y="1898280"/>
            <a:ext cx="1800" cy="42879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8029080" y="1909800"/>
            <a:ext cx="1800" cy="426888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5440" y="843120"/>
            <a:ext cx="404964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sic Numbering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xtension board -&gt; CO board -&gt; 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BKSU -&gt; E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4200" y="5880240"/>
            <a:ext cx="1449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1.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11520" y="5880240"/>
            <a:ext cx="1036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2.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1960" y="5880240"/>
            <a:ext cx="1449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3. 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800" y="11592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Board Instal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7200" y="1314360"/>
            <a:ext cx="8227800" cy="4461120"/>
            <a:chOff x="457200" y="1314360"/>
            <a:chExt cx="8227800" cy="4461120"/>
          </a:xfrm>
        </p:grpSpPr>
        <p:grpSp>
          <p:nvGrpSpPr>
            <p:cNvPr id="97" name=""/>
            <p:cNvGrpSpPr/>
            <p:nvPr/>
          </p:nvGrpSpPr>
          <p:grpSpPr>
            <a:xfrm>
              <a:off x="461160" y="1316160"/>
              <a:ext cx="8219160" cy="4456800"/>
              <a:chOff x="461160" y="1316160"/>
              <a:chExt cx="8219160" cy="44568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461160" y="1316160"/>
                <a:ext cx="1879200" cy="405000"/>
                <a:chOff x="461160" y="1316160"/>
                <a:chExt cx="1879200" cy="4050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40360" y="131616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LOT Numb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61160" y="131616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40720" y="1316160"/>
                <a:ext cx="3169440" cy="405000"/>
                <a:chOff x="2340720" y="1316160"/>
                <a:chExt cx="3169440" cy="4050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419920" y="131616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oard Posi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40720" y="131616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510880" y="1316160"/>
                <a:ext cx="3169440" cy="405000"/>
                <a:chOff x="5510880" y="1316160"/>
                <a:chExt cx="3169440" cy="405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590080" y="131616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oard Types to be install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10880" y="131616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1160" y="1721160"/>
                <a:ext cx="1879200" cy="405000"/>
                <a:chOff x="461160" y="1721160"/>
                <a:chExt cx="1879200" cy="405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40360" y="172116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1160" y="172116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40720" y="1721160"/>
                <a:ext cx="3169440" cy="405000"/>
                <a:chOff x="2340720" y="1721160"/>
                <a:chExt cx="3169440" cy="4050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419920" y="172116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tension Basic on BKS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40720" y="172116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510880" y="1721160"/>
                <a:ext cx="3169440" cy="405000"/>
                <a:chOff x="5510880" y="1721160"/>
                <a:chExt cx="3169440" cy="4050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590080" y="172116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HYBR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fix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10880" y="172116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1160" y="2126520"/>
                <a:ext cx="1879200" cy="405000"/>
                <a:chOff x="461160" y="2126520"/>
                <a:chExt cx="1879200" cy="4050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40360" y="212652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1160" y="212652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340720" y="2126520"/>
                <a:ext cx="3169440" cy="405000"/>
                <a:chOff x="2340720" y="2126520"/>
                <a:chExt cx="3169440" cy="4050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419920" y="212652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xtension Optional on BKS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40720" y="212652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510880" y="2126520"/>
                <a:ext cx="3169440" cy="405000"/>
                <a:chOff x="5510880" y="2126520"/>
                <a:chExt cx="3169440" cy="405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590080" y="212652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YBRID, SLIB8, SLIB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10880" y="212652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61160" y="2531520"/>
                <a:ext cx="1879200" cy="405000"/>
                <a:chOff x="461160" y="2531520"/>
                <a:chExt cx="1879200" cy="405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40360" y="253152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61160" y="253152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340720" y="2531520"/>
                <a:ext cx="3169440" cy="405000"/>
                <a:chOff x="2340720" y="2531520"/>
                <a:chExt cx="3169440" cy="405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419920" y="253152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tension Basic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n EKS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340720" y="253152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510880" y="2531520"/>
                <a:ext cx="3169440" cy="405000"/>
                <a:chOff x="5510880" y="2531520"/>
                <a:chExt cx="3169440" cy="405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590080" y="253152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YBR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fix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510880" y="253152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61160" y="2936880"/>
                <a:ext cx="1879200" cy="405000"/>
                <a:chOff x="461160" y="2936880"/>
                <a:chExt cx="1879200" cy="405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40360" y="293688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61160" y="293688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340720" y="2936880"/>
                <a:ext cx="3169440" cy="405000"/>
                <a:chOff x="2340720" y="2936880"/>
                <a:chExt cx="3169440" cy="405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419920" y="293688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xtension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tional on BKS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340720" y="293688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510880" y="2936880"/>
                <a:ext cx="3169440" cy="405000"/>
                <a:chOff x="5510880" y="2936880"/>
                <a:chExt cx="3169440" cy="405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590080" y="293688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YBRID, SLIB8, SLIB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510880" y="293688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61160" y="3342240"/>
                <a:ext cx="1879200" cy="405000"/>
                <a:chOff x="461160" y="3342240"/>
                <a:chExt cx="1879200" cy="405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40360" y="334224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61160" y="334224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2340720" y="3342240"/>
                <a:ext cx="3169440" cy="405000"/>
                <a:chOff x="2340720" y="3342240"/>
                <a:chExt cx="3169440" cy="405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2419920" y="334224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 Basic on BKS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340720" y="334224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510880" y="3342240"/>
                <a:ext cx="3169440" cy="405000"/>
                <a:chOff x="5510880" y="3342240"/>
                <a:chExt cx="3169440" cy="405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590080" y="334224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COB3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fix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510880" y="334224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61160" y="3747240"/>
                <a:ext cx="1879200" cy="405000"/>
                <a:chOff x="461160" y="3747240"/>
                <a:chExt cx="1879200" cy="405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40360" y="374724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61160" y="374724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340720" y="3747240"/>
                <a:ext cx="3169440" cy="405000"/>
                <a:chOff x="2340720" y="3747240"/>
                <a:chExt cx="3169440" cy="405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419920" y="374724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 Optional on BKS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340720" y="374724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510880" y="3747240"/>
                <a:ext cx="3169440" cy="405000"/>
                <a:chOff x="5510880" y="3747240"/>
                <a:chExt cx="3169440" cy="405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590080" y="374724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COB3, DC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510880" y="374724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61160" y="4152240"/>
                <a:ext cx="1879200" cy="405000"/>
                <a:chOff x="461160" y="4152240"/>
                <a:chExt cx="1879200" cy="405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40360" y="415224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61160" y="415224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340720" y="4152240"/>
                <a:ext cx="3169440" cy="405000"/>
                <a:chOff x="2340720" y="4152240"/>
                <a:chExt cx="3169440" cy="405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419920" y="415224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 Basic on EKS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340720" y="415224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510880" y="4152240"/>
                <a:ext cx="3169440" cy="405000"/>
                <a:chOff x="5510880" y="4152240"/>
                <a:chExt cx="3169440" cy="405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590080" y="415224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COB3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fix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510880" y="415224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61160" y="4557600"/>
                <a:ext cx="1879200" cy="405000"/>
                <a:chOff x="461160" y="4557600"/>
                <a:chExt cx="1879200" cy="405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40360" y="455760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1160" y="455760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340720" y="4557600"/>
                <a:ext cx="3169440" cy="405000"/>
                <a:chOff x="2340720" y="4557600"/>
                <a:chExt cx="3169440" cy="405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419920" y="455760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 Optional on EKS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40720" y="455760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510880" y="4557600"/>
                <a:ext cx="3169440" cy="405000"/>
                <a:chOff x="5510880" y="4557600"/>
                <a:chExt cx="3169440" cy="405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590080" y="455760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COB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510880" y="455760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61160" y="4962960"/>
                <a:ext cx="1879200" cy="405000"/>
                <a:chOff x="461160" y="4962960"/>
                <a:chExt cx="1879200" cy="405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40360" y="496296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61160" y="496296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40720" y="4962960"/>
                <a:ext cx="3169440" cy="405000"/>
                <a:chOff x="2340720" y="4962960"/>
                <a:chExt cx="3169440" cy="405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419920" y="496296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MIU/AAF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40720" y="496296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510880" y="4962960"/>
                <a:ext cx="3169440" cy="405000"/>
                <a:chOff x="5510880" y="4962960"/>
                <a:chExt cx="3169440" cy="405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590080" y="496296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MIU, AAF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510880" y="496296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61160" y="5367960"/>
                <a:ext cx="1879200" cy="405000"/>
                <a:chOff x="461160" y="5367960"/>
                <a:chExt cx="1879200" cy="405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40360" y="5367960"/>
                  <a:ext cx="17200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61160" y="5367960"/>
                  <a:ext cx="187920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340720" y="5367960"/>
                <a:ext cx="3169440" cy="405000"/>
                <a:chOff x="2340720" y="5367960"/>
                <a:chExt cx="3169440" cy="405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419920" y="536796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I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340720" y="536796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510880" y="5367960"/>
                <a:ext cx="3169440" cy="405000"/>
                <a:chOff x="5510880" y="5367960"/>
                <a:chExt cx="3169440" cy="405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590080" y="5367960"/>
                  <a:ext cx="301068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I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510880" y="5367960"/>
                  <a:ext cx="3169440" cy="40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7" name=""/>
            <p:cNvSpPr/>
            <p:nvPr/>
          </p:nvSpPr>
          <p:spPr>
            <a:xfrm>
              <a:off x="457200" y="1314360"/>
              <a:ext cx="8227800" cy="44611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9T16:04:40Z</dcterms:created>
  <dc:creator>Trevor Simpson</dc:creator>
  <dc:description/>
  <dc:language>en-US</dc:language>
  <cp:lastModifiedBy>Ho Lim</cp:lastModifiedBy>
  <cp:lastPrinted>2000-09-17T06:44:08Z</cp:lastPrinted>
  <dcterms:modified xsi:type="dcterms:W3CDTF">2006-11-23T02:06:38Z</dcterms:modified>
  <cp:revision>225</cp:revision>
  <dc:subject/>
  <dc:title>No Slide Title</dc:title>
</cp:coreProperties>
</file>